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A94-057E-467F-BBA5-A327AB9C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E50-1AFF-44D1-B011-9B59741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904-EFFD-4AB3-B047-B4176ED5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5C2-328D-4FB9-B21A-CD869876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21F-483D-4BD2-9E62-8D954EE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727-F177-4EA4-A9BA-07FD76BA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907-0F61-46CA-8903-3144B61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F05-75A5-4B9D-A473-92C0543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CF4-ECF5-4C91-AA4C-E462BE8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32-C32F-4210-B8C9-3977550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B87-3BCB-4453-B52F-3C26F38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75C-5C14-4F6B-81A2-585B3C0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E3B-9326-4E24-BC61-519E9FEFD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3"/>
          <p:cNvSpPr/>
          <p:nvPr/>
        </p:nvSpPr>
        <p:spPr>
          <a:xfrm flipH="1">
            <a:off x="5103360" y="382680"/>
            <a:ext cx="3240" cy="3886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04T21:01:28Z</dcterms:modified>
  <cp:revision>2</cp:revision>
  <dc:subject/>
  <dc:title>Slide 1</dc:title>
</cp:coreProperties>
</file>